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71993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F525-AC62-46F6-B36C-126AF420A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00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679040"/>
            <a:ext cx="6480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161600"/>
            <a:ext cx="6480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3BA3-42ED-42AB-BD17-93F2D2E5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00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679040"/>
            <a:ext cx="316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0640" y="1679040"/>
            <a:ext cx="316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161600"/>
            <a:ext cx="316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0640" y="4161600"/>
            <a:ext cx="316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B538-B07B-493D-9E96-370A843C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00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679040"/>
            <a:ext cx="208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1320" y="1679040"/>
            <a:ext cx="208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2280" y="1679040"/>
            <a:ext cx="208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161600"/>
            <a:ext cx="208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1320" y="4161600"/>
            <a:ext cx="208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2280" y="4161600"/>
            <a:ext cx="20862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631D-76CC-4C3D-ABB2-CABA4868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00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679040"/>
            <a:ext cx="64800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3B3-FA52-45E8-8655-164A7E33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00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679040"/>
            <a:ext cx="648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81D-3B57-40C6-BD30-C54D89DD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00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679040"/>
            <a:ext cx="3161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0640" y="1679040"/>
            <a:ext cx="3161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FCAC-4204-4933-8298-9E442C95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00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471B-C807-40E5-83DE-F20B4F80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288720"/>
            <a:ext cx="64800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315-C8DA-4C0F-B0A9-16BCD8CF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00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679040"/>
            <a:ext cx="316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0640" y="1679040"/>
            <a:ext cx="3161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161600"/>
            <a:ext cx="316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67C-B884-4D40-8536-CDF17F4E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00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679040"/>
            <a:ext cx="31618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0640" y="1679040"/>
            <a:ext cx="316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0640" y="4161600"/>
            <a:ext cx="316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974E-F7B9-4146-B672-B88F4CA8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00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679040"/>
            <a:ext cx="316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0640" y="1679040"/>
            <a:ext cx="31618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161600"/>
            <a:ext cx="64800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5601-A3CF-4479-BBC9-BA1D7360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00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679040"/>
            <a:ext cx="648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000" y="6557760"/>
            <a:ext cx="1679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0600" y="6557760"/>
            <a:ext cx="22795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0600" y="6557760"/>
            <a:ext cx="16794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7F36-A310-4904-9F8D-9AC1536238A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6000" y="2376360"/>
            <a:ext cx="6769080" cy="38642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6442200"/>
            <a:ext cx="7199640" cy="542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1280" y="72072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00"/>
                </a:solidFill>
                <a:latin typeface="Arial Black"/>
              </a:rPr>
              <a:t>URBANIZATION CHALLENGES                    IN                                                 SUB-SAHARA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576360"/>
            <a:ext cx="7199280" cy="718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6000" y="1297080"/>
            <a:ext cx="6697440" cy="52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Africa is home to an esimated </a:t>
            </a:r>
            <a:r>
              <a:rPr b="1" lang="it-IT" sz="2300" spc="-1" strike="noStrike">
                <a:solidFill>
                  <a:srgbClr val="cc0000"/>
                </a:solidFill>
                <a:latin typeface="Arial Black"/>
              </a:rPr>
              <a:t>29.4 mill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cc0000"/>
                </a:solidFill>
                <a:latin typeface="Arial Black"/>
              </a:rPr>
              <a:t>  </a:t>
            </a:r>
            <a:r>
              <a:rPr b="1" lang="it-IT" sz="2300" spc="-1" strike="noStrike">
                <a:solidFill>
                  <a:srgbClr val="cc0000"/>
                </a:solidFill>
                <a:latin typeface="Arial Black"/>
              </a:rPr>
              <a:t>people infected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with HIV/AID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300" spc="-1" strike="noStrike">
                <a:solidFill>
                  <a:srgbClr val="cc0000"/>
                </a:solidFill>
                <a:latin typeface="Arial Black"/>
              </a:rPr>
              <a:t>GNP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can shrink by up to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40% within 20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 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years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because of the HIV/AIDS pandemi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Life expectancy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is expected to fall by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 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years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in som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countri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Slum dwellers a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more exposed 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the HIV risk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440" y="6442200"/>
            <a:ext cx="7199640" cy="542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240000" y="3938760"/>
            <a:ext cx="3838680" cy="23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40" y="576360"/>
            <a:ext cx="7199640" cy="718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52360" y="2160720"/>
            <a:ext cx="5185080" cy="36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UN-HABITAT and Shelter fo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Orpha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Urban Managemen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Programme (UMP) –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HIV/AIDS through participatory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40" y="6442200"/>
            <a:ext cx="71996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576360"/>
            <a:ext cx="7199280" cy="718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76360" y="1871640"/>
            <a:ext cx="597672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Africa hosts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30% of the world’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 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refugees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40" y="6442200"/>
            <a:ext cx="7199640" cy="542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584360" y="3027240"/>
            <a:ext cx="531324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40" y="576360"/>
            <a:ext cx="7199640" cy="718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6360" y="2232000"/>
            <a:ext cx="5976720" cy="31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Disaster Management Program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Safer Cities Programm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On going projects implemented in over 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UN-HABITAT member of ECHA of th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United N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40" y="6442200"/>
            <a:ext cx="71996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576360"/>
            <a:ext cx="7199280" cy="718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0720" y="1584360"/>
            <a:ext cx="5977080" cy="46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Visibility and sensitization of the urbanization challenges in Afric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Finalize the Regional Urban Sector Profile Study Programme and provide countries with baselines for urban interven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Support EC to publish the urban sector guidelin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Agree on the modalities to support governance of the urban sector in Afric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Take the outcome of this workshop to AMCHUD and to next GC of CSD 13 in 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40" y="6442200"/>
            <a:ext cx="71996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0" y="6442200"/>
            <a:ext cx="7199640" cy="542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52360" y="287964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cc0000"/>
                </a:solidFill>
                <a:latin typeface="Arial Black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576360"/>
            <a:ext cx="7199280" cy="542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40" y="6442200"/>
            <a:ext cx="7199640" cy="542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7280" y="1512720"/>
            <a:ext cx="6696000" cy="43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African cities are gowing fast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urbanization rates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exceed </a:t>
            </a:r>
            <a:r>
              <a:rPr b="1" lang="it-IT" sz="2300" spc="-1" strike="noStrike">
                <a:solidFill>
                  <a:srgbClr val="cc0000"/>
                </a:solidFill>
                <a:latin typeface="Arial Black"/>
              </a:rPr>
              <a:t>4 - 5%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an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Slums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absorb about </a:t>
            </a:r>
            <a:r>
              <a:rPr b="0" lang="it-IT" sz="3200" spc="-1" strike="noStrike">
                <a:solidFill>
                  <a:srgbClr val="cc0000"/>
                </a:solidFill>
                <a:latin typeface="Arial Black"/>
              </a:rPr>
              <a:t>¾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of th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population grow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The number of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poor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is expected to reach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400 million in 2015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– equivalent to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46%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of Africa’s popul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0" y="576360"/>
            <a:ext cx="7199640" cy="542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431640"/>
            <a:ext cx="28728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24000" y="6442200"/>
            <a:ext cx="5977080" cy="542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1512720"/>
            <a:ext cx="4321440" cy="47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ncreasing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inequalities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income distribution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slow economic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growth increased th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proportion of people living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less than $2 per day</a:t>
            </a:r>
            <a:r>
              <a:rPr b="1" lang="it-IT" sz="23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from 90 million in 1960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it-IT" sz="2300" spc="-1" strike="noStrike">
                <a:solidFill>
                  <a:srgbClr val="cc0000"/>
                </a:solidFill>
                <a:latin typeface="Arial"/>
              </a:rPr>
              <a:t>233 million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in the late 1990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11240" y="0"/>
            <a:ext cx="2697120" cy="70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76360"/>
            <a:ext cx="7199280" cy="542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440" y="6442200"/>
            <a:ext cx="7199640" cy="542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7280" y="1512720"/>
            <a:ext cx="6696000" cy="25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2030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the sub-saharan cities will host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50% of the population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and absorb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87%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of  th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poulation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 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growth</a:t>
            </a:r>
            <a:r>
              <a:rPr b="1" lang="it-IT" sz="23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592360" y="2692440"/>
            <a:ext cx="41068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40" y="576360"/>
            <a:ext cx="7199640" cy="718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87280" y="1512720"/>
            <a:ext cx="669600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n 2001,  166 million people –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72% of Africa’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 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urban population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lived in slu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736720" y="259236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440" y="6442200"/>
            <a:ext cx="719964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40" y="576360"/>
            <a:ext cx="7199640" cy="718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1512720"/>
            <a:ext cx="669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With no effective pro-poor policies, urban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slum populations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will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double every 15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40" y="6442200"/>
            <a:ext cx="7199640" cy="542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16000" y="2664000"/>
            <a:ext cx="681984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576360"/>
            <a:ext cx="7199280" cy="718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76360" y="1871640"/>
            <a:ext cx="475272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Millennium Development Goa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Target 11 Guideli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Slum Upgrading Polic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Slum Upgrading Facility (SUF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Cities Without Slums (CW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Regional Urban Sector Profil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Study (RUSP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40" y="6442200"/>
            <a:ext cx="7199640" cy="542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699160" y="1440000"/>
            <a:ext cx="135720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576360"/>
            <a:ext cx="7199280" cy="718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7280" y="1655640"/>
            <a:ext cx="360036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In Africa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50%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of th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urban population do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not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have adequate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water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 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supp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40" y="6442200"/>
            <a:ext cx="7199640" cy="542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87280" y="4024440"/>
            <a:ext cx="626436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60%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lack adequate </a:t>
            </a:r>
            <a:r>
              <a:rPr b="0" lang="it-IT" sz="2300" spc="-1" strike="noStrike">
                <a:solidFill>
                  <a:srgbClr val="cc0000"/>
                </a:solidFill>
                <a:latin typeface="Arial Black"/>
              </a:rPr>
              <a:t>sanitation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Poor households pay 10 to 100 times a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much as the rich for wa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887640" y="1368360"/>
            <a:ext cx="324180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576360"/>
            <a:ext cx="7199280" cy="718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87280" y="2376360"/>
            <a:ext cx="360036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Water for African Ci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Lake Victoria Initiativ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Collaboration with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440" y="6442200"/>
            <a:ext cx="7199640" cy="542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032360" y="1584360"/>
            <a:ext cx="2931840" cy="1976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87280" y="4465800"/>
            <a:ext cx="6626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300" spc="-1" strike="noStrike">
                <a:solidFill>
                  <a:srgbClr val="000000"/>
                </a:solidFill>
                <a:latin typeface="Arial"/>
              </a:rPr>
              <a:t>African Development Bank and EU water facil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38:17Z</dcterms:created>
  <dc:creator>Ombretta </dc:creator>
  <dc:description/>
  <dc:language>en-US</dc:language>
  <cp:lastModifiedBy>Marcel Tsholofelo Korth</cp:lastModifiedBy>
  <cp:lastPrinted>2009-08-04T13:37:52Z</cp:lastPrinted>
  <dcterms:modified xsi:type="dcterms:W3CDTF">2009-08-04T13:37:57Z</dcterms:modified>
  <cp:revision>12</cp:revision>
  <dc:subject/>
  <dc:title>Slide 1</dc:title>
</cp:coreProperties>
</file>